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wmf" ContentType="image/x-wmf"/>
  <Override PartName="/ppt/media/image6.png" ContentType="image/png"/>
  <Override PartName="/ppt/media/image31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2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19C-A75F-4CF1-9A53-B520AAA0299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kinxun.com.hk/big5/tsw.php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craiglotter.co.za/2010/04/19/how-to-disable-sorting-on-a-column-in-jquery-datatables-plugin/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可在此介紹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</a:t>
            </a:r>
            <a:r>
              <a:rPr b="1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作為一個社福機構，透過環境及自然保育基金的公開甄選程序，被揀選管理和營運環保園塑膠資源再生中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仁愛堂環保園塑膠資源再生中心位於屯門環保園，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正式啟用。五萬呎的環保園廠房包括人手將塑膠分類、去除雜質、以大型機械清洗、切粒、風乾等工序，將回收的塑膠製成膠片或膠粒原材料，出售以讓塑膠循環回收再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該中心高級技術主任鄺炳希先生表示，中心目標每日處理約二十噸的回收塑膠，當中包括日常家居源頭分類計劃屋苑的膠袋、膠樽及其他塑膠用品。另外，該中心亦與其他機構合作，派出車隊四出進行回收工作，積極推動回收塑膠再造。中心旨在把廢塑膠回收並轉化為可銷售的高增值再生物料，減輕堆填區的負荷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中心將大部份人力資源放到將塑膠分類及去除雜質（如招紙和膠蓋），希望大家進行源頭分類的同時，更將放入回收箱的物品分類及清洗，以減少回收工序以達到環保的目的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greensense.org.hk/plasticbag/subpage1k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Arial"/>
              </a:rPr>
              <a:t>仁愛堂環保園塑膠資源再生中心 （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prrc.yot.org.hk/?page_id=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1D49-191A-4DB4-A79A-BF8D0AC3C43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9A8-0384-4F86-A12E-B1A7E417548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再造　妙筆生輝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happypama.mingpao.com/cfm/Photo3.cfm?&amp;File=20120714/plab/wta1h.txt&amp;Mode=2&amp;PhotoNo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5F74-1DE9-4AC8-8B5F-550159E25F0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F0D9-0E0B-420F-B8ED-A7CA93846AA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36B9-C571-43EE-BC33-043AA4C8491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kinxun.com.hk/big5/tsw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6119-AE46-4EA3-8AEA-5F2D830270C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craiglotter.co.za/2010/04/19/how-to-disable-sorting-on-a-column-in-jquery-datatables-plugi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0D8-63AB-4CCB-AAF0-F79E3932BDF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39F-68E7-4DF0-A637-A766B0E6492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250E-6C7A-473D-BAFB-33887906E44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拿出預先準備了的塑膠製品（例如膠袋、雷射唱片、膠飲品樽等）和７個號碼袋出來，請學生把塑膠製品投進正確的號碼袋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宜在這裡指出香港沒有分編碼回收塑膠的設施，不同類型的塑膠會被掉進同一個塑膠回收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7025-DAD8-4CAB-B183-9D669FB798A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在這裡展示兩袋膠樽實物（一袋有樽蓋、招紙和污漬；一袋則沒有）。請學生分成四人小組，討論回收人員較喜歡哪一袋膠樽，並舉手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向每組派發上述兩袋不同的膠樽，請每組學生合作動手把回收人員不喜歡的那袋膠樽弄至他們喜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提問每組學生為膠樽做了些甚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feature=player_embedded&amp;v=HQhu6_k_aLY#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8E7F-1BFC-4DFF-817D-F2693042DD5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工作紙五，請學生寫出兩袋膠樽的不同之處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F0B-676A-4EB0-931B-1A6DDEA8D93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請學生猜猜為甚麼回收人員較喜歡另一袋膠樽（題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輕回收人員的工作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時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節省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案解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清洗工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受污染的塑膠廢物，會減低再造塑料的市場價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同樹脂種類的塑膠廢物混雜，會增力再加工的困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請學生承諾：日後在將膠樽投進回收桶前，會洗淨膠樽並移除樽蓋和招紙，為地球盡一分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AC9B-D5EF-41CE-A3F8-6E275225149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B01BD-31A0-4A6E-BAFA-5B39F575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937386-E946-4665-8146-CDB1C25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16278-B05F-4C08-89E2-1E9F33C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F5ECC-21AC-430E-B58D-86EDE28C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F90F2-4C7F-4D2F-A79E-DEB34D7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92484-1037-4C21-8B91-0AA187E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878B8-9AA5-4350-AADA-C883C96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13591-CC57-45F4-A983-2C57D4A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A614F-C6A6-41B1-9050-5DFED892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A56B5-07A5-4CB8-93F5-5E80D5BD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329E31-80D6-4061-A748-864CDC35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769333-CC87-4393-895A-16F83AED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EF0AE-95F2-49C9-9979-47F357DA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BA89C-F17F-4F0E-9687-A5748BD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4BCDB-2E9A-406A-822B-E30ED97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7C1C6-C711-4AFA-8897-7FFD054A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C8712-6DD5-4331-A9C0-9CBF561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1B304-3EDE-4B8D-ACE8-41ABCCD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1A674-68B5-4721-A1BE-57E05A1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FE021-330F-4299-AA14-703F470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33668-0857-44BE-9C8C-C03E43C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6A7F4-B7BF-4A27-9C75-345061B7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D2EDD-19E2-4E6B-9EE8-295D114C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BCF48-A54F-4D93-B074-EB51CD44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807-D4B8-46CA-B692-0E253B83C3B5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D2A-0602-467B-8C5E-CFEA6E92D9EE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1B1-E10E-4121-AB94-FEAF5C4C5BE1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BBC0-B28B-467A-9B43-9CE5848DCE74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1DA5-7619-440B-8065-24172CE24681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0094-4ED8-40D3-8BE6-3C3011945280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k.php" TargetMode="External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greensense.org.hk/plasticbag/subpage1d.ph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d.ph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五： 循環再造的旅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5" name="Picture 4" descr="D:\Temp\Temporary Internet Files\Content.IE5\HDXSWTAK\MC900142245[1].wmf"/>
          <p:cNvPicPr/>
          <p:nvPr/>
        </p:nvPicPr>
        <p:blipFill>
          <a:blip r:embed="rId1"/>
          <a:stretch/>
        </p:blipFill>
        <p:spPr>
          <a:xfrm rot="404400">
            <a:off x="6443640" y="3212640"/>
            <a:ext cx="1944720" cy="187668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2D49-4B85-443D-880E-B1B5F6AA675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258920" y="3645000"/>
            <a:ext cx="518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觀看短片：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仁愛堂環保園塑膠資源再生中心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塑膠回收再造過程 </a:t>
            </a:r>
            <a:r>
              <a:rPr b="1" lang="en-US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- </a:t>
            </a:r>
            <a:r>
              <a:rPr b="1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環保觸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新細明體"/>
                <a:ea typeface="新細明體"/>
                <a:hlinkClick r:id="rId1" action="ppaction://hlinksldjump"/>
              </a:rPr>
              <a:t>http://www.youtube.com/watch?feature=player_embedded&amp;v=HQhu6_k_aLY#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圖片 7" descr=""/>
          <p:cNvPicPr/>
          <p:nvPr/>
        </p:nvPicPr>
        <p:blipFill>
          <a:blip r:embed="rId2"/>
          <a:stretch/>
        </p:blipFill>
        <p:spPr>
          <a:xfrm>
            <a:off x="7093080" y="1125360"/>
            <a:ext cx="1388880" cy="4123080"/>
          </a:xfrm>
          <a:prstGeom prst="rect">
            <a:avLst/>
          </a:prstGeom>
          <a:ln w="0">
            <a:noFill/>
          </a:ln>
        </p:spPr>
      </p:pic>
      <p:sp>
        <p:nvSpPr>
          <p:cNvPr id="244" name="圓角矩形圖說文字 4"/>
          <p:cNvSpPr/>
          <p:nvPr/>
        </p:nvSpPr>
        <p:spPr>
          <a:xfrm>
            <a:off x="539640" y="620640"/>
            <a:ext cx="6193080" cy="2808360"/>
          </a:xfrm>
          <a:prstGeom prst="wedgeRoundRectCallout">
            <a:avLst>
              <a:gd name="adj1" fmla="val 50564"/>
              <a:gd name="adj2" fmla="val 64879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循環再造的過程真的很漫長。小朋友，你能說出整個循環再造的過程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C502-573A-40D5-A35C-6D293493CB1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一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不同的塑膠分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5"/>
          <a:stretch/>
        </p:blipFill>
        <p:spPr>
          <a:xfrm>
            <a:off x="1979640" y="1773360"/>
            <a:ext cx="4968720" cy="439560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5"/>
          <p:cNvSpPr/>
          <p:nvPr/>
        </p:nvSpPr>
        <p:spPr>
          <a:xfrm>
            <a:off x="766764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7777-7783-4CF5-AAA0-53A1996EB28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二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樽蓋、招紙移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5"/>
          <a:stretch/>
        </p:blipFill>
        <p:spPr>
          <a:xfrm>
            <a:off x="1763640" y="1989000"/>
            <a:ext cx="5666040" cy="40608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5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5584-223C-4E18-AE40-DFF6B6D38A8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三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送到打碎機變成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250920" y="206064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B9C-89A4-4AD4-A6B0-B42D4550C8F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四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碎片清洗和風乾，變成清潔的塑膠碎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lesson 5 - step 4.JPG"/>
          <p:cNvPicPr/>
          <p:nvPr/>
        </p:nvPicPr>
        <p:blipFill>
          <a:blip r:embed="rId5"/>
          <a:stretch/>
        </p:blipFill>
        <p:spPr>
          <a:xfrm>
            <a:off x="1042920" y="1844640"/>
            <a:ext cx="7129440" cy="468000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F71-F6CC-4A3F-8B5D-A62E084414C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五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5"/>
          <a:srcRect l="0" t="0" r="0" b="5850"/>
          <a:stretch/>
        </p:blipFill>
        <p:spPr>
          <a:xfrm>
            <a:off x="1042920" y="1916280"/>
            <a:ext cx="7129440" cy="4608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把清潔的塑膠碎片熱溶，冷卻後切粒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62300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9E1D-2C3D-45EA-A3FA-1967B515815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循環再造的過程（六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變成膠粒後，便再用來製造其他塑膠產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0" y="6534000"/>
            <a:ext cx="756144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k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5"/>
          <a:srcRect l="0" t="27472" r="42121" b="23692"/>
          <a:stretch/>
        </p:blipFill>
        <p:spPr>
          <a:xfrm>
            <a:off x="1908000" y="2708280"/>
            <a:ext cx="30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user\AppData\Local\Microsoft\Windows\Temporary Internet Files\Content.IE5\0YFQWHE2\MC900434859[1].png"/>
          <p:cNvPicPr/>
          <p:nvPr/>
        </p:nvPicPr>
        <p:blipFill>
          <a:blip r:embed="rId6"/>
          <a:stretch/>
        </p:blipFill>
        <p:spPr>
          <a:xfrm>
            <a:off x="5018040" y="2492280"/>
            <a:ext cx="2793960" cy="279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7"/>
          <a:stretch/>
        </p:blipFill>
        <p:spPr>
          <a:xfrm>
            <a:off x="5292720" y="1763640"/>
            <a:ext cx="2087640" cy="4618080"/>
          </a:xfrm>
          <a:prstGeom prst="rect">
            <a:avLst/>
          </a:prstGeom>
          <a:ln w="0">
            <a:noFill/>
          </a:ln>
        </p:spPr>
      </p:pic>
      <p:sp>
        <p:nvSpPr>
          <p:cNvPr id="284" name="Slide Number Placeholder 7"/>
          <p:cNvSpPr/>
          <p:nvPr/>
        </p:nvSpPr>
        <p:spPr>
          <a:xfrm>
            <a:off x="762300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2F4E-A1D9-43DB-BACA-E003B0C9152C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87" name="內容版面配置區 4" descr="plastic2.gif"/>
          <p:cNvPicPr/>
          <p:nvPr/>
        </p:nvPicPr>
        <p:blipFill>
          <a:blip r:embed="rId1"/>
          <a:stretch/>
        </p:blipFill>
        <p:spPr>
          <a:xfrm>
            <a:off x="539640" y="4027320"/>
            <a:ext cx="8229600" cy="2497320"/>
          </a:xfrm>
          <a:prstGeom prst="rect">
            <a:avLst/>
          </a:prstGeom>
          <a:ln w="0">
            <a:noFill/>
          </a:ln>
        </p:spPr>
      </p:pic>
      <p:sp>
        <p:nvSpPr>
          <p:cNvPr id="288" name="圓角矩形圖說文字 3"/>
          <p:cNvSpPr/>
          <p:nvPr/>
        </p:nvSpPr>
        <p:spPr>
          <a:xfrm>
            <a:off x="971640" y="549360"/>
            <a:ext cx="7272360" cy="3384360"/>
          </a:xfrm>
          <a:prstGeom prst="wedgeRoundRectCallout">
            <a:avLst>
              <a:gd name="adj1" fmla="val -19597"/>
              <a:gd name="adj2" fmla="val 69884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為保護生態環境，我們應該多做一步，做到「環保四用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Redu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減少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Reus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物盡其用塑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Recycl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循環再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) Replace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替代使用塑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18F9-EF86-4A96-BD9F-7390DDE8F91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ee7f2">
                <a:alpha val="7607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F28-B0F3-4DF1-B69B-B1D3AC22370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D:\Temp\Temporary Internet Files\Content.IE5\HDXSWTAK\MC900439141[1].png"/>
          <p:cNvPicPr/>
          <p:nvPr/>
        </p:nvPicPr>
        <p:blipFill>
          <a:blip r:embed="rId1"/>
          <a:stretch/>
        </p:blipFill>
        <p:spPr>
          <a:xfrm>
            <a:off x="-6480" y="19080"/>
            <a:ext cx="9156960" cy="68691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Heart 2.pn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55640" y="907920"/>
            <a:ext cx="7561440" cy="5329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7"/>
          <p:cNvSpPr/>
          <p:nvPr/>
        </p:nvSpPr>
        <p:spPr>
          <a:xfrm>
            <a:off x="3564000" y="1125360"/>
            <a:ext cx="2108160" cy="85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ffffff"/>
                </a:solidFill>
                <a:latin typeface="Comic Sans MS"/>
              </a:rPr>
              <a:t>承諾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0"/>
          <p:cNvSpPr/>
          <p:nvPr/>
        </p:nvSpPr>
        <p:spPr>
          <a:xfrm>
            <a:off x="6166080" y="5140440"/>
            <a:ext cx="171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簽名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omic Sans MS"/>
              </a:rPr>
              <a:t>日期：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1"/>
          <p:cNvSpPr/>
          <p:nvPr/>
        </p:nvSpPr>
        <p:spPr>
          <a:xfrm>
            <a:off x="2296440" y="2073240"/>
            <a:ext cx="45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我 </a:t>
            </a:r>
            <a:r>
              <a:rPr b="0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班）承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 Callout 22"/>
          <p:cNvSpPr/>
          <p:nvPr/>
        </p:nvSpPr>
        <p:spPr>
          <a:xfrm>
            <a:off x="71280" y="4581360"/>
            <a:ext cx="2988000" cy="2016360"/>
          </a:xfrm>
          <a:prstGeom prst="cloudCallout">
            <a:avLst>
              <a:gd name="adj1" fmla="val -28736"/>
              <a:gd name="adj2" fmla="val 5663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omic Sans MS"/>
              </a:rPr>
              <a:t>家長的話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3"/>
          <p:cNvSpPr/>
          <p:nvPr/>
        </p:nvSpPr>
        <p:spPr>
          <a:xfrm>
            <a:off x="3059280" y="2781360"/>
            <a:ext cx="302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6878520" y="472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STXingkai"/>
                <a:ea typeface="STXingkai"/>
              </a:rPr>
              <a:t>小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6804000" y="5591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TXingkai"/>
                <a:ea typeface="STXingkai"/>
              </a:rPr>
              <a:t>3-8-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6875640" y="350028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2195640" y="2060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陳小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4427640" y="2133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8"/>
          <p:cNvSpPr/>
          <p:nvPr/>
        </p:nvSpPr>
        <p:spPr>
          <a:xfrm>
            <a:off x="3935520" y="2879640"/>
            <a:ext cx="1323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避免使用膠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3564000" y="3500280"/>
            <a:ext cx="25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將膠樽分類回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24"/>
          <p:cNvSpPr/>
          <p:nvPr/>
        </p:nvSpPr>
        <p:spPr>
          <a:xfrm>
            <a:off x="3564000" y="4103640"/>
            <a:ext cx="158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標楷體"/>
                <a:ea typeface="標楷體"/>
              </a:rPr>
              <a:t>自備水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0" t="1445" r="1268" b="1705"/>
          <a:stretch/>
        </p:blipFill>
        <p:spPr>
          <a:xfrm>
            <a:off x="-757080" y="-27000"/>
            <a:ext cx="10153440" cy="6912000"/>
          </a:xfrm>
          <a:prstGeom prst="rect">
            <a:avLst/>
          </a:prstGeom>
          <a:ln w="0">
            <a:noFill/>
          </a:ln>
        </p:spPr>
      </p:pic>
      <p:pic>
        <p:nvPicPr>
          <p:cNvPr id="170" name="圖片 7" descr="plastic2.gif"/>
          <p:cNvPicPr/>
          <p:nvPr/>
        </p:nvPicPr>
        <p:blipFill>
          <a:blip r:embed="rId2"/>
          <a:stretch/>
        </p:blipFill>
        <p:spPr>
          <a:xfrm>
            <a:off x="1835280" y="4508640"/>
            <a:ext cx="7100640" cy="2155680"/>
          </a:xfrm>
          <a:prstGeom prst="rect">
            <a:avLst/>
          </a:prstGeom>
          <a:ln w="0">
            <a:noFill/>
          </a:ln>
        </p:spPr>
      </p:pic>
      <p:sp>
        <p:nvSpPr>
          <p:cNvPr id="171" name="圓角矩形圖說文字 6"/>
          <p:cNvSpPr/>
          <p:nvPr/>
        </p:nvSpPr>
        <p:spPr>
          <a:xfrm>
            <a:off x="900000" y="115920"/>
            <a:ext cx="7559640" cy="1512720"/>
          </a:xfrm>
          <a:prstGeom prst="wedgeRoundRectCallout">
            <a:avLst>
              <a:gd name="adj1" fmla="val 27976"/>
              <a:gd name="adj2" fmla="val 231120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到了回收工場，我們便要展開被循環再造的旅程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8AA1-3B9C-47BD-8225-BF383DCEE86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6" descr="Picture1.png"/>
          <p:cNvPicPr/>
          <p:nvPr/>
        </p:nvPicPr>
        <p:blipFill>
          <a:blip r:embed="rId1"/>
          <a:stretch/>
        </p:blipFill>
        <p:spPr>
          <a:xfrm>
            <a:off x="216000" y="828720"/>
            <a:ext cx="5868720" cy="4400640"/>
          </a:xfrm>
          <a:prstGeom prst="rect">
            <a:avLst/>
          </a:prstGeom>
          <a:ln w="0">
            <a:noFill/>
          </a:ln>
        </p:spPr>
      </p:pic>
      <p:sp>
        <p:nvSpPr>
          <p:cNvPr id="175" name="圓角矩形圖說文字 10"/>
          <p:cNvSpPr/>
          <p:nvPr/>
        </p:nvSpPr>
        <p:spPr>
          <a:xfrm>
            <a:off x="4716360" y="189000"/>
            <a:ext cx="4032360" cy="2087640"/>
          </a:xfrm>
          <a:prstGeom prst="wedgeRoundRectCallout">
            <a:avLst>
              <a:gd name="adj1" fmla="val -2250"/>
              <a:gd name="adj2" fmla="val 65115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咦？為何旅程一開始，我們便要跟膠袋小姐們分開？我們都是塑膠家庭的成員啊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2"/>
          <p:cNvGrpSpPr/>
          <p:nvPr/>
        </p:nvGrpSpPr>
        <p:grpSpPr>
          <a:xfrm>
            <a:off x="7209000" y="1628640"/>
            <a:ext cx="1684080" cy="2808360"/>
            <a:chOff x="7209000" y="1628640"/>
            <a:chExt cx="1684080" cy="2808360"/>
          </a:xfrm>
        </p:grpSpPr>
        <p:pic>
          <p:nvPicPr>
            <p:cNvPr id="177" name="Picture 40" descr=""/>
            <p:cNvPicPr/>
            <p:nvPr/>
          </p:nvPicPr>
          <p:blipFill>
            <a:blip r:embed="rId2"/>
            <a:stretch/>
          </p:blipFill>
          <p:spPr>
            <a:xfrm>
              <a:off x="8176320" y="2305440"/>
              <a:ext cx="716760" cy="21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D:\Temp\Temporary Internet Files\Content.IE5\HDXSWTAK\MC900384172[1].wmf"/>
            <p:cNvPicPr/>
            <p:nvPr/>
          </p:nvPicPr>
          <p:blipFill>
            <a:blip r:embed="rId3"/>
            <a:stretch/>
          </p:blipFill>
          <p:spPr>
            <a:xfrm>
              <a:off x="7209000" y="1628640"/>
              <a:ext cx="1113480" cy="160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圓角矩形圖說文字 8"/>
          <p:cNvSpPr/>
          <p:nvPr/>
        </p:nvSpPr>
        <p:spPr>
          <a:xfrm>
            <a:off x="2916360" y="4724280"/>
            <a:ext cx="4103640" cy="1873440"/>
          </a:xfrm>
          <a:prstGeom prst="wedgeRoundRectCallout">
            <a:avLst>
              <a:gd name="adj1" fmla="val 56995"/>
              <a:gd name="adj2" fmla="val -7076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膠樽仔，不單只我們要跟膠袋小姐們分開，我倆也要分開呀！</a:t>
            </a:r>
            <a:r>
              <a:rPr b="1" lang="zh-TW" sz="25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膠樽仔原因為何嗎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圖片 7" descr="plastic2.gif"/>
          <p:cNvPicPr/>
          <p:nvPr/>
        </p:nvPicPr>
        <p:blipFill>
          <a:blip r:embed="rId4"/>
          <a:srcRect l="10696" t="8808" r="80395" b="11897"/>
          <a:stretch/>
        </p:blipFill>
        <p:spPr>
          <a:xfrm>
            <a:off x="7093080" y="3716280"/>
            <a:ext cx="987120" cy="2660760"/>
          </a:xfrm>
          <a:prstGeom prst="rect">
            <a:avLst/>
          </a:prstGeom>
          <a:ln w="0">
            <a:noFill/>
          </a:ln>
        </p:spPr>
      </p:pic>
      <p:sp>
        <p:nvSpPr>
          <p:cNvPr id="181" name="Slide Number Placeholder 9"/>
          <p:cNvSpPr/>
          <p:nvPr/>
        </p:nvSpPr>
        <p:spPr>
          <a:xfrm>
            <a:off x="7767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A83A-FF5A-4658-B77E-912CE62443F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圖說文字 4"/>
          <p:cNvSpPr/>
          <p:nvPr/>
        </p:nvSpPr>
        <p:spPr>
          <a:xfrm>
            <a:off x="826920" y="260280"/>
            <a:ext cx="7490160" cy="2448000"/>
          </a:xfrm>
          <a:prstGeom prst="wedgeRoundRectCallout">
            <a:avLst>
              <a:gd name="adj1" fmla="val -36763"/>
              <a:gd name="adj2" fmla="val 6764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膠樽仔，我倆要分開，是因為我們身上的編碼不同，也即是說我們身上的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膠料不同</a:t>
            </a: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。把我們分開來回收，</a:t>
            </a:r>
            <a:r>
              <a:rPr b="1" lang="zh-TW" sz="3000" spc="-1" strike="noStrike" u="sng">
                <a:solidFill>
                  <a:srgbClr val="000000"/>
                </a:solidFill>
                <a:uFillTx/>
                <a:latin typeface="Comic Sans MS"/>
              </a:rPr>
              <a:t>再造出來的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</a:rPr>
              <a:t>產品質量會較穩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4932360" y="3075120"/>
            <a:ext cx="3819600" cy="3378240"/>
          </a:xfrm>
          <a:prstGeom prst="rect">
            <a:avLst/>
          </a:prstGeom>
          <a:ln w="0">
            <a:noFill/>
          </a:ln>
        </p:spPr>
      </p:pic>
      <p:sp>
        <p:nvSpPr>
          <p:cNvPr id="185" name="向右箭號 8"/>
          <p:cNvSpPr/>
          <p:nvPr/>
        </p:nvSpPr>
        <p:spPr>
          <a:xfrm>
            <a:off x="3419640" y="4365720"/>
            <a:ext cx="1368360" cy="1224000"/>
          </a:xfrm>
          <a:prstGeom prst="righ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0" y="6534000"/>
            <a:ext cx="7561440" cy="35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資料來源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5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greensense.org.hk/plasticbag/subpage1d.p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圖片 7" descr="plastic2.gif"/>
          <p:cNvPicPr/>
          <p:nvPr/>
        </p:nvPicPr>
        <p:blipFill>
          <a:blip r:embed="rId6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88" name="圖片 10" descr="plastic2.gif"/>
          <p:cNvPicPr/>
          <p:nvPr/>
        </p:nvPicPr>
        <p:blipFill>
          <a:blip r:embed="rId7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sp>
        <p:nvSpPr>
          <p:cNvPr id="189" name="Slide Number Placeholder 7"/>
          <p:cNvSpPr/>
          <p:nvPr/>
        </p:nvSpPr>
        <p:spPr>
          <a:xfrm>
            <a:off x="7740720" y="6448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C94-1E85-482A-8942-80DA830E4D3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圓角矩形圖說文字 3"/>
          <p:cNvSpPr/>
          <p:nvPr/>
        </p:nvSpPr>
        <p:spPr>
          <a:xfrm>
            <a:off x="755640" y="476280"/>
            <a:ext cx="7848720" cy="2592360"/>
          </a:xfrm>
          <a:prstGeom prst="wedgeRoundRectCallout">
            <a:avLst>
              <a:gd name="adj1" fmla="val -36245"/>
              <a:gd name="adj2" fmla="val 65833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其實除了我、你和膠袋小姐外，還有很多不同類型的塑膠。膠樽仔，你知道我們塑膠家族包含多少個小家庭嗎？而它們的家庭成員又是誰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圖片 4" descr="plastic2.gif"/>
          <p:cNvPicPr/>
          <p:nvPr/>
        </p:nvPicPr>
        <p:blipFill>
          <a:blip r:embed="rId1"/>
          <a:srcRect l="10696" t="8808" r="80395" b="11897"/>
          <a:stretch/>
        </p:blipFill>
        <p:spPr>
          <a:xfrm>
            <a:off x="468360" y="2852640"/>
            <a:ext cx="1366920" cy="3683160"/>
          </a:xfrm>
          <a:prstGeom prst="rect">
            <a:avLst/>
          </a:prstGeom>
          <a:ln w="0">
            <a:noFill/>
          </a:ln>
        </p:spPr>
      </p:pic>
      <p:pic>
        <p:nvPicPr>
          <p:cNvPr id="195" name="圖片 5" descr="plastic2.gif"/>
          <p:cNvPicPr/>
          <p:nvPr/>
        </p:nvPicPr>
        <p:blipFill>
          <a:blip r:embed="rId2"/>
          <a:srcRect l="0" t="5876" r="91981" b="11897"/>
          <a:stretch/>
        </p:blipFill>
        <p:spPr>
          <a:xfrm>
            <a:off x="2124000" y="3500280"/>
            <a:ext cx="92556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user\AppData\Local\Microsoft\Windows\Temporary Internet Files\Content.IE5\SGZ0SZTC\MC900355425[1].wmf"/>
          <p:cNvPicPr/>
          <p:nvPr/>
        </p:nvPicPr>
        <p:blipFill>
          <a:blip r:embed="rId3"/>
          <a:stretch/>
        </p:blipFill>
        <p:spPr>
          <a:xfrm>
            <a:off x="3635280" y="2708280"/>
            <a:ext cx="2219400" cy="207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user\AppData\Local\Microsoft\Windows\Temporary Internet Files\Content.IE5\DJIQMK0F\MC900354228[1].wmf"/>
          <p:cNvPicPr/>
          <p:nvPr/>
        </p:nvPicPr>
        <p:blipFill>
          <a:blip r:embed="rId4"/>
          <a:stretch/>
        </p:blipFill>
        <p:spPr>
          <a:xfrm rot="180600">
            <a:off x="6195600" y="2781000"/>
            <a:ext cx="2273400" cy="201600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09A-4F1D-4446-B93B-63DBE41861B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0" y="6608880"/>
            <a:ext cx="4932360" cy="30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資料來源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greensense.org.hk/plasticbag/subpage1d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表格 13" descr=""/>
          <p:cNvPicPr/>
          <p:nvPr/>
        </p:nvPicPr>
        <p:blipFill>
          <a:blip r:embed="rId5"/>
          <a:stretch/>
        </p:blipFill>
        <p:spPr>
          <a:xfrm>
            <a:off x="249120" y="171360"/>
            <a:ext cx="8645760" cy="650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5" descr="http://www.greensense.org.hk/plasticbag/images/subpage1_d_1.gif"/>
          <p:cNvPicPr/>
          <p:nvPr/>
        </p:nvPicPr>
        <p:blipFill>
          <a:blip r:embed="rId6"/>
          <a:stretch/>
        </p:blipFill>
        <p:spPr>
          <a:xfrm>
            <a:off x="611280" y="90792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" descr="http://www.greensense.org.hk/plasticbag/images/subpage1_d_2.gif"/>
          <p:cNvPicPr/>
          <p:nvPr/>
        </p:nvPicPr>
        <p:blipFill>
          <a:blip r:embed="rId7"/>
          <a:stretch/>
        </p:blipFill>
        <p:spPr>
          <a:xfrm>
            <a:off x="601560" y="1700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7" descr="http://www.greensense.org.hk/plasticbag/images/subpage1_d_3.gif"/>
          <p:cNvPicPr/>
          <p:nvPr/>
        </p:nvPicPr>
        <p:blipFill>
          <a:blip r:embed="rId8"/>
          <a:stretch/>
        </p:blipFill>
        <p:spPr>
          <a:xfrm>
            <a:off x="611280" y="2492280"/>
            <a:ext cx="1449360" cy="72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8" descr=""/>
          <p:cNvPicPr/>
          <p:nvPr/>
        </p:nvPicPr>
        <p:blipFill>
          <a:blip r:embed="rId9"/>
          <a:stretch/>
        </p:blipFill>
        <p:spPr>
          <a:xfrm>
            <a:off x="611280" y="3355920"/>
            <a:ext cx="1452600" cy="720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"/>
          <p:cNvPicPr/>
          <p:nvPr/>
        </p:nvPicPr>
        <p:blipFill>
          <a:blip r:embed="rId10"/>
          <a:stretch/>
        </p:blipFill>
        <p:spPr>
          <a:xfrm>
            <a:off x="669960" y="4221000"/>
            <a:ext cx="138096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0" descr="http://www.greensense.org.hk/plasticbag/images/subpage1_d_6.gif"/>
          <p:cNvPicPr/>
          <p:nvPr/>
        </p:nvPicPr>
        <p:blipFill>
          <a:blip r:embed="rId11"/>
          <a:stretch/>
        </p:blipFill>
        <p:spPr>
          <a:xfrm>
            <a:off x="684360" y="4984920"/>
            <a:ext cx="1366560" cy="676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http://www.greensense.org.hk/plasticbag/images/subpage1_d_7.gif"/>
          <p:cNvPicPr/>
          <p:nvPr/>
        </p:nvPicPr>
        <p:blipFill>
          <a:blip r:embed="rId12"/>
          <a:stretch/>
        </p:blipFill>
        <p:spPr>
          <a:xfrm>
            <a:off x="684360" y="5805360"/>
            <a:ext cx="1366560" cy="67968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7740720" y="6524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F89F-1810-4039-BBAD-0870517752B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FB64-7127-47CB-BFE7-8A4CD53104F8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4800600" cy="37335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79280" y="3654360"/>
            <a:ext cx="1800360" cy="3014640"/>
          </a:xfrm>
          <a:prstGeom prst="rect">
            <a:avLst/>
          </a:prstGeom>
          <a:ln w="0">
            <a:noFill/>
          </a:ln>
        </p:spPr>
      </p:pic>
      <p:sp>
        <p:nvSpPr>
          <p:cNvPr id="215" name="圓角矩形圖說文字 4"/>
          <p:cNvSpPr/>
          <p:nvPr/>
        </p:nvSpPr>
        <p:spPr>
          <a:xfrm>
            <a:off x="324000" y="115920"/>
            <a:ext cx="7632720" cy="2808360"/>
          </a:xfrm>
          <a:prstGeom prst="wedgeRoundRectCallout">
            <a:avLst>
              <a:gd name="adj1" fmla="val -34430"/>
              <a:gd name="adj2" fmla="val 75013"/>
              <a:gd name="adj3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回收姐姐的樣子好像不大高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究竟她們是見到我們不高興，還是見到我們隔鄰的膠樽朋友不高興呢？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Comic Sans MS"/>
              </a:rPr>
              <a:t>小朋友，你們能告訴我們嗎？你們能找出我們之間的不同之處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2411280" y="3789360"/>
            <a:ext cx="165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圖片 7" descr=""/>
          <p:cNvPicPr/>
          <p:nvPr/>
        </p:nvPicPr>
        <p:blipFill>
          <a:blip r:embed="rId1"/>
          <a:stretch/>
        </p:blipFill>
        <p:spPr>
          <a:xfrm>
            <a:off x="1042920" y="457200"/>
            <a:ext cx="1584360" cy="4700520"/>
          </a:xfrm>
          <a:prstGeom prst="rect">
            <a:avLst/>
          </a:prstGeom>
          <a:ln w="0">
            <a:noFill/>
          </a:ln>
        </p:spPr>
      </p:pic>
      <p:pic>
        <p:nvPicPr>
          <p:cNvPr id="218" name="圖片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520640" cy="4535280"/>
          </a:xfrm>
          <a:prstGeom prst="rect">
            <a:avLst/>
          </a:prstGeom>
          <a:ln w="0">
            <a:noFill/>
          </a:ln>
        </p:spPr>
      </p:pic>
      <p:sp>
        <p:nvSpPr>
          <p:cNvPr id="219" name="雲朵形圖說文字 12"/>
          <p:cNvSpPr/>
          <p:nvPr/>
        </p:nvSpPr>
        <p:spPr>
          <a:xfrm>
            <a:off x="2771640" y="115920"/>
            <a:ext cx="3816360" cy="1657440"/>
          </a:xfrm>
          <a:prstGeom prst="cloudCallout">
            <a:avLst>
              <a:gd name="adj1" fmla="val -63763"/>
              <a:gd name="adj2" fmla="val -2653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相比另一袋膠樽，我身上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3"/>
          <p:cNvSpPr/>
          <p:nvPr/>
        </p:nvSpPr>
        <p:spPr>
          <a:xfrm>
            <a:off x="681084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4"/>
          <p:cNvSpPr/>
          <p:nvPr/>
        </p:nvSpPr>
        <p:spPr>
          <a:xfrm>
            <a:off x="1390680" y="5219640"/>
            <a:ext cx="8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圖說文字 1 15"/>
          <p:cNvSpPr/>
          <p:nvPr/>
        </p:nvSpPr>
        <p:spPr>
          <a:xfrm>
            <a:off x="3708360" y="206064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-149625"/>
              <a:gd name="adj4" fmla="val -9833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圖說文字 1 16"/>
          <p:cNvSpPr/>
          <p:nvPr/>
        </p:nvSpPr>
        <p:spPr>
          <a:xfrm>
            <a:off x="3708360" y="3141720"/>
            <a:ext cx="1727280" cy="934920"/>
          </a:xfrm>
          <a:prstGeom prst="borderCallout1">
            <a:avLst>
              <a:gd name="adj1" fmla="val 18750"/>
              <a:gd name="adj2" fmla="val -8333"/>
              <a:gd name="adj3" fmla="val -56222"/>
              <a:gd name="adj4" fmla="val -72074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圖說文字 1 17"/>
          <p:cNvSpPr/>
          <p:nvPr/>
        </p:nvSpPr>
        <p:spPr>
          <a:xfrm>
            <a:off x="3708360" y="4221000"/>
            <a:ext cx="1727280" cy="936720"/>
          </a:xfrm>
          <a:prstGeom prst="borderCallout1">
            <a:avLst>
              <a:gd name="adj1" fmla="val 18750"/>
              <a:gd name="adj2" fmla="val -8333"/>
              <a:gd name="adj3" fmla="val 82273"/>
              <a:gd name="adj4" fmla="val -83439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002-8664-4493-AC31-55AE7ABB520A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圖片 7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582560" cy="46990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3"/>
          <p:cNvSpPr/>
          <p:nvPr/>
        </p:nvSpPr>
        <p:spPr>
          <a:xfrm>
            <a:off x="4867200" y="35002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1268280" y="5013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膠樽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圖說文字 1 15"/>
          <p:cNvSpPr/>
          <p:nvPr/>
        </p:nvSpPr>
        <p:spPr>
          <a:xfrm>
            <a:off x="2987640" y="1700280"/>
            <a:ext cx="1440000" cy="649080"/>
          </a:xfrm>
          <a:prstGeom prst="borderCallout1">
            <a:avLst>
              <a:gd name="adj1" fmla="val 18750"/>
              <a:gd name="adj2" fmla="val -8333"/>
              <a:gd name="adj3" fmla="val -203259"/>
              <a:gd name="adj4" fmla="val -10517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樽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線圖說文字 1 16"/>
          <p:cNvSpPr/>
          <p:nvPr/>
        </p:nvSpPr>
        <p:spPr>
          <a:xfrm>
            <a:off x="2987640" y="242100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-38175"/>
              <a:gd name="adj4" fmla="val -7933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招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圖說文字 1 17"/>
          <p:cNvSpPr/>
          <p:nvPr/>
        </p:nvSpPr>
        <p:spPr>
          <a:xfrm>
            <a:off x="2987640" y="3141720"/>
            <a:ext cx="1440000" cy="647640"/>
          </a:xfrm>
          <a:prstGeom prst="borderCallout1">
            <a:avLst>
              <a:gd name="adj1" fmla="val 18750"/>
              <a:gd name="adj2" fmla="val -8333"/>
              <a:gd name="adj3" fmla="val 240722"/>
              <a:gd name="adj4" fmla="val -98657"/>
            </a:avLst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Comic Sans MS"/>
              </a:rPr>
              <a:t>污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圓角矩形圖說文字 10"/>
          <p:cNvSpPr/>
          <p:nvPr/>
        </p:nvSpPr>
        <p:spPr>
          <a:xfrm>
            <a:off x="2627280" y="189000"/>
            <a:ext cx="5473800" cy="1295280"/>
          </a:xfrm>
          <a:prstGeom prst="wedgeRoundRectCallout">
            <a:avLst>
              <a:gd name="adj1" fmla="val -55768"/>
              <a:gd name="adj2" fmla="val -4564"/>
              <a:gd name="adj3" fmla="val 16667"/>
            </a:avLst>
          </a:prstGeom>
          <a:solidFill>
            <a:srgbClr val="ffcc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朋友，你知道為甚麼回收姐姐會較喜歡他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圖說文字 19"/>
          <p:cNvSpPr/>
          <p:nvPr/>
        </p:nvSpPr>
        <p:spPr>
          <a:xfrm>
            <a:off x="2916360" y="4221000"/>
            <a:ext cx="5976720" cy="1729080"/>
          </a:xfrm>
          <a:prstGeom prst="wedgeRectCallout">
            <a:avLst>
              <a:gd name="adj1" fmla="val -63995"/>
              <a:gd name="adj2" fmla="val -3899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omic Sans MS"/>
              </a:rPr>
              <a:t>小朋友，你以後在回收前，會把我們洗乾淨，並將樽蓋和招紙移除，為地球盡一分力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圖片 8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603360" cy="1800000"/>
          </a:xfrm>
          <a:prstGeom prst="rect">
            <a:avLst/>
          </a:prstGeom>
          <a:ln w="0">
            <a:noFill/>
          </a:ln>
        </p:spPr>
      </p:pic>
      <p:sp>
        <p:nvSpPr>
          <p:cNvPr id="236" name="圓角矩形 11"/>
          <p:cNvSpPr/>
          <p:nvPr/>
        </p:nvSpPr>
        <p:spPr>
          <a:xfrm>
            <a:off x="6084720" y="1628640"/>
            <a:ext cx="25909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減輕工作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圓角矩形 12"/>
          <p:cNvSpPr/>
          <p:nvPr/>
        </p:nvSpPr>
        <p:spPr>
          <a:xfrm>
            <a:off x="6084720" y="242100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回收成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圓角矩形 18"/>
          <p:cNvSpPr/>
          <p:nvPr/>
        </p:nvSpPr>
        <p:spPr>
          <a:xfrm>
            <a:off x="6084720" y="3141720"/>
            <a:ext cx="25909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Comic Sans MS"/>
              </a:rPr>
              <a:t>節省時間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A4E-A63A-4A6C-8644-45F015A7AD6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7:13Z</dcterms:modified>
  <cp:revision>138</cp:revision>
  <dc:subject/>
  <dc:title>課節二：為什麼要送我到堆填區？ </dc:title>
</cp:coreProperties>
</file>